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4FFB-3BD6-422E-ADF4-D502F6F2E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E9AC-0876-4230-8610-5904397A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AD6AA-8579-4B10-9AAC-87954646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7A7D4-4B56-42BD-91CD-EE22ADBA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F87A7-B29E-4405-954C-E87A9B15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A931B-BAEF-4A1D-A474-3C7B3C34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F65A2-0249-4A08-B53D-22787083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DBBAC-8957-4D45-8DD5-04318C97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A2189-98E2-4692-ABC1-16F9F8CF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ED0B8-4D9F-4148-B20C-E3D7B0E5B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B1AA5-2CAA-4C71-A839-67F9067D9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7451C-4C11-47BE-AEA7-1323D9640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2122-0DBF-48AC-9D72-D244FEDA5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DFB30-295E-4E52-A7C5-DE6938FF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579A4-7771-4D0B-AF61-D28EC7B0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DA8B21-2A1C-46A1-AC04-BA889CB2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AF2D2-740E-4262-A54B-548D322B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435A0-4F81-44EA-BB91-CDD30D53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2841C-89F7-4C81-A806-F2E5EDB2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53CD0-E0B2-4947-BEEA-59EF119A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F24D6-9E2E-479E-9D85-DD9A4200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69A84-FD66-4A9C-B09D-71B92BBA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6C93E-2A45-40D6-B471-8DA406EDF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09AA-3336-4D6D-BC25-8CED02FB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A46C6-4C3A-4E7F-9561-7679AB277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275DD-D157-4FE4-A577-82877588F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D8460-2611-45AA-A659-82906145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DF55C-F94F-4403-8203-46033DC0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1A096-1E3C-44BA-8B7C-AEDFA039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69F85-3AF3-4101-BE82-5A26C42A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05C0C-E27C-47BE-BE23-FB47B3A6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5ADF1-0CF5-4345-84E6-5AB8F9EA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7EA2E-7857-4E59-8C88-BB29954D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78B8B-C2B1-499A-BA98-1EDC135A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E3CE-81A9-4461-AC72-CE9A7B8D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CC1D1-60F9-4C66-A05A-B88B20FE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38C31-DE35-462E-BD0C-332B30133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BA4E0-94D1-4847-9F9C-5FB7D8EB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FF99A0-EB5D-4E47-9652-4057F885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689607-41D6-4838-9012-E1B6184C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7DCE8-A84B-4A91-A7FA-8320DB90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82B54-24F1-409C-997C-71D5FA6F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F2CD6-E5EE-4923-B217-9FA64D8B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B378F-3D39-4EC7-9F35-2245C6E4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605DF6-35DB-4188-A852-74158896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5124-AD45-43E0-9928-D3673BD8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D7903D-7E80-449F-A6BC-5720E003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3B1830-1259-44D8-8AFA-7641FDAD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11F9C4-7D3E-4EE9-A3A8-41A2755E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E4443-F93A-4CE9-8992-EA69270DF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9F03F-E10E-4A34-9CB3-8668F208B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CAC158-DD63-483B-9408-E05D7800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1C0D71-F594-4305-8E1E-4ACF124C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CB7A2C-AD43-4998-9C98-AC3AF83E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0E272A-3F60-46CB-8F61-6CC53C5A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C51F59-73E7-458E-ADE8-E1899FA2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3297-8919-498F-A45F-044A24F7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5555F9-69B3-4F19-BB5C-0A18D9A9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FEA259-F073-4FCB-A7CA-7D6F62FC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BD8A16-A93C-41A3-BE34-FC1BB67C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05FA80-FD0B-40D8-ABBA-7C73725D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E98B19-1E8C-43DF-8CC0-D7CDA372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B61E9C-390E-4822-A1F7-7CA0EEEE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D53C4D-7704-454D-BC3B-22F7BB7EB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BE2E1B-731E-433D-A105-16EB65EC5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FBE586-5D16-432E-AF8C-0BBF3FA3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8639E1-4208-4E93-994A-3E2ED048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D40D-0349-45F0-85B3-C6AA6297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9B5DC2-5231-4865-ACCF-B76AB612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5E0B62-FBDA-42C4-8300-2C422968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420DD0-8E8D-4996-AEB0-86758779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3E90B8-2746-4C92-B623-D76C93FB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A635BD-20C8-4989-95CE-2AFF302D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A02FC0-DC0A-425A-9E6B-87F3DE45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21F63C-8E06-4EA1-8EA1-2391692D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FB3E1B-D277-47A0-B3FE-4B668D6A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67C8A5-A7E9-4283-958D-AC602E532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89E0E0-8D34-4CF7-A8CD-DF5965C1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6E6F-86DD-43C2-A75C-8E2AA898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D9258C-4A66-4097-B56B-A7DA7367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EFD923-865C-4C32-9319-D74C8CB8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4E4B93-2B7E-44E6-ACCC-BDB1F0A1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541DCC-A488-4C74-8D1E-EA4C061C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84F5E7-53D9-4CC3-A800-3A3DDE64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970417-96DD-42CE-9131-404C3246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EE1F9B-C197-4B49-93AE-D6A5E916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4B3516-5E1C-4BED-82E1-589F2724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FE7985-14AA-4E59-AA51-CAF8FBC7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55DAA9-9CBB-4A55-9414-58A2EB417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6395-02EA-45AA-A39C-DDBAFDF3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B88A0B-46FF-47CB-B7E9-C5483001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31DA24-2CB4-4AE3-88AC-A406B7E75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9EC5E9-D4F5-4CEB-B590-D4C74298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84DF21-A6D3-4E3A-AE21-13787BA1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76DBFB-CEE2-4EE6-BFB4-B5349BF0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488ABF-7658-43D9-BD85-FF4B9E4D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25D5CC-45D9-4A4E-9839-896E9FF0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32A188-CDF5-4766-A27D-26056333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8857C2-1D8B-4E1A-B175-7A29188A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D6C131-DC28-4536-83D6-89CF3A7D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3C45-3BDD-4E44-BF0D-4B9C808B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B07217-55AA-4941-979E-D3261843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1095AD-3703-4B7E-A915-54D6052E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A721F5-7466-4D7A-BA8A-B3AB009E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C45C99-14C5-4146-B190-B4C879EB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82895F-50BD-47B5-AA62-4FF18254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A4ED21-3FFD-4F55-9430-7E015171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C40BF7-A498-4DFF-92E0-5D1FB2D5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CDF545-0437-4332-99F0-70305703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C13F75-4FE7-4665-B1C0-E5D85A00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222D3B-EB68-4734-8129-47CFE3A3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280D-8AAC-4959-A0F1-6BBB6AF7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8FFF-46A7-432F-99A4-52E8AC21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1F400F-79B6-418C-8C3B-53455B9F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4D313C-BFD7-4CC8-8955-D6A4F1B7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5E314F-D154-4547-B0D7-087EC761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07C8FB-8FAD-4F04-AE42-631056664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4A492E-DF60-4700-8CCB-2ED12DE5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ADDB03-836C-49D0-A236-8E4EAC9D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4A7B39-915D-4C38-AF59-C288F5C2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E53FE3-4DEF-4CB7-86CD-8FD4A11C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54B3B5-6F46-45ED-8C7F-0B3B016D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D62C0C-1FEF-46ED-BB19-CC5932DD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40E5-F9C4-4A5F-B541-47069FDF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346E73-DA4F-4E03-918A-EDD23100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302011-246B-40A0-A2A4-10DB48FB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5752ED-18D6-45DB-B961-5C157304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AA5D5A-4A93-42BF-B7A5-E9CCE86E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B12750-3784-44AE-B099-60D67F48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BC427A-12EA-4027-8E27-F44D2B7D9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DA87FA-BBB4-4829-9606-18C71916E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6015DD-EC23-4D55-81E7-5F1AB14A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33B938-D2D3-4D1D-B3A6-E488A75B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22C298-8BF5-4243-B4F1-F7C20AB1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6941-9DA9-4A10-8176-BAE768F3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932BF3-F6C2-4985-8FC1-2F07DE62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63E58B-7151-4139-AEB8-F732969E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4290C8-AD3D-4956-9AC7-6E4130BC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8BA283-D21B-4D18-94FC-8420652E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AE836B-C6B5-4EFE-91AB-F46C00D8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90AA13-7E37-41BA-8EA9-2C777FC9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27E703-E49D-4447-A6FC-AE49A2F3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397EA8-5F35-46AA-B2AF-492A1682F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31B217-3C67-4DB1-B61B-47F9E1F2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49FCCD-A50C-4E16-A1A8-97694A43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0193-25DF-4B41-885F-EF0FD6E60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E74821-6A47-4D96-AC23-DBC1EF10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2CDC0B-8265-489F-8B9B-8D6BCBF5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19305D-332C-4FAF-94AA-A0DED0DF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E4A03F-9BDE-4843-B381-FDD0D358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0A9005-F8FA-4E2A-BB47-A577C40D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EA1449-21BB-411B-9686-B54830A3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B33BD4-6489-4BF2-8681-7B347E67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375D0E-006F-4643-8C1E-C94D0334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AF1A7C-AE04-4D8E-872B-8A59CEE5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8D3070-E9EE-4D9D-997B-7AB4465E9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42B7-8615-47CB-9831-03E219E5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A8B3C0-C854-4B7F-BEE1-387703B8A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78A17C-B6EB-44D0-B1DF-D84B7941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7EB727-CCCA-46A4-80AD-7FC45F03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AE1D68-92C2-4E22-8A36-92CFF54C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A0DE38-9F5C-44DB-AB57-69C5255C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CA024E-1D6B-4458-B07D-51566909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216287-A6DF-48E5-989D-7977EF9F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8ED4A0-7E29-4580-B941-686EDBA6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C3ED54-9D5B-4992-941A-0FA0CC69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A84189-2F76-4D8B-B0BC-769FF375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FFF2A-7572-4E2F-A759-872FA3358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AEDA57-2767-4A93-95A3-0AB167E8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F6C2CB-438B-4B72-A2B7-58598B68C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1AC017-B12F-4F0A-913C-A32B9D805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445B8-851F-42B4-BF5B-681E3651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298CA-3546-4168-9FAC-791B3599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C2C51-CB49-45BA-98F1-75FD422B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8EC30-26B8-46D0-969E-C31E1A50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790A-1EC5-46C8-B246-4705D367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78423-ECFE-4A59-ACAD-727462EC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237CB-C596-4E92-858D-9C2B46F2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25030-24B5-4327-BEED-C378A1C0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750C4-A2CD-4D9A-8FFB-4AD7F176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E9606-CEAC-4D18-9E1A-ED5A71FC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29E3B-8587-4ADA-A760-72BBC5AA4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60932-A4C7-4855-913F-0199EA8DF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06DAF-9408-4C4C-AD44-D02BB814C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18160-35B6-4BB8-A8E1-74B08C9B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CAEDA-BED2-41BC-AAF8-E469C63A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839C-9BF9-4C23-A212-92FA3760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4BBEB-7009-4E21-A377-99F13C9E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374F2-23D5-428A-963A-EBF9033A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65BA9-0C52-470D-BE45-76CBDAC4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D0CB1-4E14-4313-B12B-946AB9FE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DC670-825E-4CEB-B5A4-0E2409DD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E057C-E682-4313-A761-481796B8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468EA-C327-4909-B5C3-CB2A7E24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02237-CFE9-41DF-A69A-BB3CA505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BA3CB-B260-47BB-B20D-2078AEEA8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196D8-C5B2-475F-9E26-1DF023166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739C-4F9D-4B39-8944-2B958C94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1EB5F-FE0F-4FB4-833F-586EACCE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8F97A-B4E7-4D05-A326-CAB845BE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9C999-0CCD-43F8-A545-3A143128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1BEF8-8D79-4BEF-A409-D02174A1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474CB-561D-49FF-9775-FEB03940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F436A-63DC-4D4F-9365-5EE6757F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15207-EAAD-4EF5-AE9D-126DBC62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6D4C0-0F59-4A04-9B48-11D10432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9007D-626E-4A87-BF4B-F606C0CA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83F34-1E55-40D6-84ED-FE6902EC4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8062-726D-403C-B153-D30DCFFE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535F5-4C97-4093-929D-6681EB5BF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48F6D-A63E-40BB-8D4B-8541D383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26206-CB52-4719-B09E-15B66B38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C93B6-EEB3-44A8-92C1-AAAE9E5D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EB188-BA22-4333-9568-D21E2BC4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07F09-6F26-42EC-8BFA-B044107D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99080-9A78-4A07-82A1-DE7D456A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908EF-C53D-4D51-8FE7-7D3ECB00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A22C5-C323-420B-8AEE-794B1D45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7912D-90A1-46E6-A68B-3B761C45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D759-1A3A-457D-9EFD-5083BD7E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87F18-2E17-4637-A9B2-951AB258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8D2D4-9258-44D8-93ED-D1A8FD42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21EE8-9E3B-4A99-AB4E-12094C61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06E45-F890-4AC6-AA9F-FE349AE4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6E5AC-2B66-4686-B13F-B4A67A9E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87E31-C789-447E-B52D-F17EF31D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E0D40-B98B-4F53-8BD7-49CF0666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C152F-7329-4EE1-923F-BDB1D323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E9D82-8464-46EA-884D-ABC3ED8F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5DC4C-0DC2-474A-B689-6B7FF20A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671F-C061-411B-B581-2E0AD416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75794-E5B4-41B4-8DA4-EB9E48D8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8111C-69FC-4B7B-9A72-16F5A38B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89829-1551-4E7C-946F-03BD71CA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05599-F6D3-4003-9EE8-F60884376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A1228-299A-46CF-AA13-4D118A937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2E0C7-89C2-4117-B89B-A6664A97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FB07F-55A1-4674-AA86-6AFA985A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FE71F-26D3-4876-BAB6-7E0EBCF6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62F5E-B0DC-4F8D-B28C-30ACA7B1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53EEF-BE39-47AE-8431-5FF69769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6B75-C5E7-42BE-BD4A-E472D361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E159C-E3C9-4C54-87FB-2E1B9DC0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525CE-C131-4EE0-9415-DFA9CBFF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E4652-6188-46A3-87EE-3B2B60E9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15E6D-3B9E-4916-9B09-80B528E0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69B57-25EA-4D05-9BFA-1112C458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3BBA7-D8D2-4B06-9B3F-FB4281A6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4DDDF-A38C-461E-91A1-A2EF13AE8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0AF32-AE73-4DD5-AACD-823AFF5F8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E09B6-9957-40F7-802F-32B4E808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AF606-DE3C-41D2-B3FE-19F4AE8A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1339-34EC-443E-9A42-FFDB8F1A2F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3691-C1C8-459A-B6CD-90AFD47266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7ACD-522A-4DFA-A28C-6D9706531F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D43A-92C0-4C7D-AB41-DB4FAA1406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B64B-0DB0-4C97-AC14-50B9EC1494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A43A-CE8F-4BFA-AD4E-6759A2F495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1715-A7C6-4844-8B9B-362F2DB2F3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C8E5-FCE9-4716-AAD7-4B7E453905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6C72-D7B5-442B-BE2C-B1B7AEBF23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32F7-A4AE-404F-8B5B-788CC8E10E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1B49-D927-4295-BEEF-2F9ADC8D2B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A6FC-E3A0-4F05-9C5C-6B5EEB9F10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4EF2-C8AE-42F1-BFBE-AB7F2A3BC3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427C-4FB0-41CD-BA08-A0A5293BCE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CB4A-C5B6-4E22-9BD0-2902F981A8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FBCA-7DD1-4360-8CCC-A3B306A040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2BAE-51B2-4FAA-ADDE-98FC70EA04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2A5F-F925-4311-A888-DD106B4704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4BF9-0D61-4096-A6FE-2CE3DA5153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6EBC-9DDF-4AD5-90CE-DC74907EDB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AE44-2E13-47F9-AD22-658CF2F34C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F932-F384-4A25-8392-ACC05F2D38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352C-844C-4A46-9F6D-57D741E40A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2743-ED34-4DDE-AAA0-20974F77AC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68BD-9EB6-41EF-865A-20B4BDB528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AC62-96DF-4E95-8D5D-87CBB89719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9FA2-B6FE-4BA1-AC2C-71917E92B1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7256-7031-4B1D-9489-3008A8FDEF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4C62-95AB-45CB-8A06-39E6F51AFC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D217-E1AE-4B96-8C94-3B73927A20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051C-4E3A-4564-A019-A080FF6BA1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ADF8-41D0-457B-B0E0-0251204FFC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39E5-5D59-44FB-9C34-0ECA8B216E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45AA-0330-499D-9A75-35A4DF92AB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8EAC-B878-4785-93A2-E0B56CE762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21A9-0DDC-48BB-BE4E-E57BFF5D42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27C3-4F8C-483A-9704-595AE67F99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5759-3EC8-4D81-9D61-D9A2B518BB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2131-BF57-476C-9809-B6A4AE507D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78A2-2963-4350-A862-9DE0128B8A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671920" y="3219480"/>
            <a:ext cx="380016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14480" y="561960"/>
            <a:ext cx="8915400" cy="57340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6156360" y="191628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1782720" y="38178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7155000" y="331308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4275000" y="43117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909720" y="592128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1528920" y="593100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2162160" y="5921280"/>
            <a:ext cx="28908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9410" descr=""/>
          <p:cNvPicPr/>
          <p:nvPr/>
        </p:nvPicPr>
        <p:blipFill>
          <a:blip r:embed="rId1"/>
          <a:stretch/>
        </p:blipFill>
        <p:spPr>
          <a:xfrm>
            <a:off x="581040" y="2647800"/>
            <a:ext cx="7981920" cy="15624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4788000" y="32846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6751800" y="32846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7370640" y="32846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5"/>
          <a:stretch/>
        </p:blipFill>
        <p:spPr>
          <a:xfrm>
            <a:off x="4788000" y="386064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6"/>
          <a:stretch/>
        </p:blipFill>
        <p:spPr>
          <a:xfrm>
            <a:off x="6746760" y="386064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7"/>
          <a:stretch/>
        </p:blipFill>
        <p:spPr>
          <a:xfrm>
            <a:off x="7365960" y="3860640"/>
            <a:ext cx="28908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8373" descr=""/>
          <p:cNvPicPr/>
          <p:nvPr/>
        </p:nvPicPr>
        <p:blipFill>
          <a:blip r:embed="rId1"/>
          <a:stretch/>
        </p:blipFill>
        <p:spPr>
          <a:xfrm>
            <a:off x="204840" y="1109520"/>
            <a:ext cx="8734320" cy="46389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3040200" y="17384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4417920" y="172872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5724360" y="17384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5"/>
          <a:stretch/>
        </p:blipFill>
        <p:spPr>
          <a:xfrm>
            <a:off x="3132000" y="2181240"/>
            <a:ext cx="1944720" cy="257040"/>
          </a:xfrm>
          <a:prstGeom prst="rect">
            <a:avLst/>
          </a:prstGeom>
          <a:ln w="0">
            <a:noFill/>
          </a:ln>
        </p:spPr>
      </p:pic>
      <p:pic>
        <p:nvPicPr>
          <p:cNvPr id="942" name="图片 58378" descr=""/>
          <p:cNvPicPr/>
          <p:nvPr/>
        </p:nvPicPr>
        <p:blipFill>
          <a:blip r:embed="rId6"/>
          <a:stretch/>
        </p:blipFill>
        <p:spPr>
          <a:xfrm>
            <a:off x="1130400" y="5286240"/>
            <a:ext cx="1655640" cy="414360"/>
          </a:xfrm>
          <a:prstGeom prst="rect">
            <a:avLst/>
          </a:prstGeom>
          <a:ln w="0">
            <a:noFill/>
          </a:ln>
        </p:spPr>
      </p:pic>
      <p:pic>
        <p:nvPicPr>
          <p:cNvPr id="943" name="图片 58379" descr=""/>
          <p:cNvPicPr/>
          <p:nvPr/>
        </p:nvPicPr>
        <p:blipFill>
          <a:blip r:embed="rId7"/>
          <a:stretch/>
        </p:blipFill>
        <p:spPr>
          <a:xfrm>
            <a:off x="4984920" y="5281560"/>
            <a:ext cx="1655640" cy="4143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8"/>
          <a:stretch/>
        </p:blipFill>
        <p:spPr>
          <a:xfrm>
            <a:off x="8431200" y="25020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9"/>
          <a:stretch/>
        </p:blipFill>
        <p:spPr>
          <a:xfrm>
            <a:off x="8440560" y="292428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10"/>
          <a:stretch/>
        </p:blipFill>
        <p:spPr>
          <a:xfrm>
            <a:off x="8407440" y="332280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11"/>
          <a:stretch/>
        </p:blipFill>
        <p:spPr>
          <a:xfrm>
            <a:off x="8397720" y="37353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12"/>
          <a:stretch/>
        </p:blipFill>
        <p:spPr>
          <a:xfrm>
            <a:off x="8407440" y="415908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13"/>
          <a:stretch/>
        </p:blipFill>
        <p:spPr>
          <a:xfrm>
            <a:off x="8532720" y="454644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14"/>
          <a:stretch/>
        </p:blipFill>
        <p:spPr>
          <a:xfrm>
            <a:off x="8440560" y="49705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15"/>
          <a:stretch/>
        </p:blipFill>
        <p:spPr>
          <a:xfrm>
            <a:off x="8532720" y="5402160"/>
            <a:ext cx="28908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27:33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